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B67-BCEA-4533-ABF5-7054AD1C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7B9-CD3B-4397-A4F8-64C30B66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B22-3DAC-4A3D-AE62-DFCCD92C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60A-98A5-45AE-B346-917D2536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2FFB-BA99-476E-9CB8-28142DFC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C686-6211-4CD7-8680-D2CEAEAF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F62D-A8C7-4927-BC5E-A8F7CC48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36D9-B2A6-46BA-9FBC-416A085C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4B06-F1AC-447D-BD40-5ED6E519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64D6-8D38-42BA-B236-1D611147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8721-23F0-4831-B3DF-DBC6558A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DF0-630C-440D-B209-04F47812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E74-B383-4839-931A-8A46105F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96EB-D40A-4D72-86F5-698689B8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F5CC-F768-4035-989F-702E14A3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9032-FA51-4E27-BD4F-8A965D72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EE83-AAFD-4450-87DC-0441BD38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7374-561F-45D2-99DE-DA565FC5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B6C-34FB-4A79-906D-FF3F0C19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F18-D0A0-4B78-B923-1D09983F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3DF-83FA-4E00-BBDA-DA6832EB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834-B25F-4F98-8236-1D8CFB0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69E-8EF5-4AAB-931C-E9DDEA96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61A-8DFB-4E5B-901C-C5A76AFB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764F-E79B-4E06-B49E-293DF3FB5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3936-DB6F-48EA-9503-B0D5567C6634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2.png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2.png"/><Relationship Id="rId2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2.png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64064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66"/>
                </a:solidFill>
                <a:latin typeface="Verdana"/>
              </a:rPr>
              <a:t>Skip </a:t>
            </a: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Counting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4" descr="j0215302"/>
          <p:cNvPicPr/>
          <p:nvPr/>
        </p:nvPicPr>
        <p:blipFill>
          <a:blip r:embed="rId1"/>
          <a:stretch/>
        </p:blipFill>
        <p:spPr>
          <a:xfrm>
            <a:off x="1295280" y="3733920"/>
            <a:ext cx="214812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45720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3"/>
          <a:stretch/>
        </p:blipFill>
        <p:spPr>
          <a:xfrm>
            <a:off x="57913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00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C 0.00104 -0.01667 0.00087 -0.03681 0.00833 -0.05116 C 0.01371 -0.07245 0.0099 -0.06042 0.02153 -0.08657 C 0.02431 -0.09282 0.02552 -0.10023 0.0283 -0.10671 C 0.03542 -0.12361 0.04149 -0.13981 0.05 -0.15556 C 0.05451 -0.16389 0.05746 -0.17431 0.06493 -0.17778 C 0.07396 -0.19352 0.08507 -0.2044 0.09826 -0.21319 C 0.10556 -0.22338 0.11684 -0.22593 0.12656 -0.23102 C 0.12847 -0.23194 0.12969 -0.23449 0.1316 -0.23542 C 0.13993 -0.23958 0.13837 -0.23565 0.14496 -0.24005 C 0.16319 -0.25208 0.17812 -0.25393 0.19826 -0.25764 C 0.22674 -0.26296 0.19236 -0.25718 0.21163 -0.26227 C 0.23646 -0.26898 0.26146 -0.27639 0.28663 -0.27986 C 0.29271 -0.28194 0.29878 -0.28542 0.30486 -0.28657 C 0.31371 -0.28819 0.3316 -0.29097 0.3316 -0.29097 C 0.36458 -0.29005 0.3934 -0.29676 0.42326 -0.28449 C 0.43003 -0.27824 0.43785 -0.27662 0.44496 -0.27106 C 0.46545 -0.25556 0.45469 -0.25995 0.46823 -0.25556 C 0.47639 -0.24468 0.48837 -0.23935 0.49826 -0.23102 C 0.51059 -0.2206 0.52031 -0.20625 0.53333 -0.19768 C 0.5349 -0.19468 0.53628 -0.19143 0.53819 -0.18889 C 0.53958 -0.18704 0.54201 -0.18657 0.54323 -0.18449 C 0.54479 -0.18194 0.54514 -0.17824 0.54653 -0.17546 C 0.54809 -0.17222 0.5526 -0.16875 0.55486 -0.16667 C 0.55885 -0.15139 0.56771 -0.13935 0.575 -0.12662 C 0.58524 -0.10856 0.57639 -0.11898 0.5816 -0.10671 C 0.5849 -0.09884 0.5901 -0.08657 0.59496 -0.07986 C 0.59757 -0.0713 0.59861 -0.06412 0.6033 -0.05764 C 0.60903 -0.03356 0.61493 -0.01157 0.61823 0.01343 C 0.61875 0.01713 0.61996 0.02083 0.61996 0.02454 C 0.61996 0.02685 0.6191 0.01991 0.61823 0.01782 C 0.61736 0.01551 0.61597 0.01343 0.61493 0.01111 C 0.61215 -0.00278 0.61441 0.00486 0.6066 -0.01111 C 0.60191 -0.02083 0.59896 -0.0338 0.59496 -0.04444 C 0.59045 -0.05694 0.57812 -0.07569 0.57153 -0.08657 C 0.55799 -0.1088 0.54514 -0.13148 0.53333 -0.15556 C 0.53264 -0.15718 0.51823 -0.17176 0.51667 -0.17338 C 0.48941 -0.20347 0.45608 -0.21435 0.42153 -0.22222 C 0.40104 -0.22153 0.38038 -0.22176 0.3599 -0.21991 C 0.35538 -0.21944 0.34653 -0.21551 0.34653 -0.21551 C 0.34496 -0.21412 0.3434 -0.21227 0.34167 -0.21111 C 0.33837 -0.20926 0.3316 -0.20671 0.3316 -0.20671 C 0.32621 -0.20185 0.32083 -0.19954 0.31493 -0.1956 C 0.30972 -0.18819 0.30226 -0.18681 0.29496 -0.18449 C 0.29062 -0.17847 0.28924 -0.17384 0.28333 -0.17106 C 0.28212 -0.16875 0.28125 -0.16643 0.27986 -0.16435 C 0.27726 -0.16042 0.27153 -0.15324 0.27153 -0.15324 C 0.26684 -0.14074 0.26233 -0.12708 0.2566 -0.11551 C 0.25226 -0.09352 0.25799 -0.11667 0.25156 -0.10208 C 0.25069 -0.10023 0.24844 -0.0875 0.24826 -0.08657 C 0.24774 -0.05741 0.24496 -0.01204 0.24496 0.02222 E">
                                      <p:cBhvr>
                                        <p:cTn id="1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9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2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0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0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6" descr=""/>
          <p:cNvPicPr/>
          <p:nvPr/>
        </p:nvPicPr>
        <p:blipFill>
          <a:blip r:embed="rId2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3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4" descr="j0232146"/>
          <p:cNvPicPr/>
          <p:nvPr/>
        </p:nvPicPr>
        <p:blipFill>
          <a:blip r:embed="rId21"/>
          <a:stretch/>
        </p:blipFill>
        <p:spPr>
          <a:xfrm>
            <a:off x="43750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j0232146"/>
          <p:cNvPicPr/>
          <p:nvPr/>
        </p:nvPicPr>
        <p:blipFill>
          <a:blip r:embed="rId22"/>
          <a:stretch/>
        </p:blipFill>
        <p:spPr>
          <a:xfrm>
            <a:off x="5442120" y="48481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6" descr=""/>
          <p:cNvPicPr/>
          <p:nvPr/>
        </p:nvPicPr>
        <p:blipFill>
          <a:blip r:embed="rId2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350532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8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4" descr="j0232146"/>
          <p:cNvPicPr/>
          <p:nvPr/>
        </p:nvPicPr>
        <p:blipFill>
          <a:blip r:embed="rId21"/>
          <a:stretch/>
        </p:blipFill>
        <p:spPr>
          <a:xfrm>
            <a:off x="43750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5" descr="j0232146"/>
          <p:cNvPicPr/>
          <p:nvPr/>
        </p:nvPicPr>
        <p:blipFill>
          <a:blip r:embed="rId22"/>
          <a:stretch/>
        </p:blipFill>
        <p:spPr>
          <a:xfrm>
            <a:off x="5442120" y="48481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6" descr="j0232146"/>
          <p:cNvPicPr/>
          <p:nvPr/>
        </p:nvPicPr>
        <p:blipFill>
          <a:blip r:embed="rId23"/>
          <a:stretch/>
        </p:blipFill>
        <p:spPr>
          <a:xfrm>
            <a:off x="6461280" y="483084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7" descr="j0232146"/>
          <p:cNvPicPr/>
          <p:nvPr/>
        </p:nvPicPr>
        <p:blipFill>
          <a:blip r:embed="rId24"/>
          <a:stretch/>
        </p:blipFill>
        <p:spPr>
          <a:xfrm>
            <a:off x="7527960" y="483084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9" descr=""/>
          <p:cNvPicPr/>
          <p:nvPr/>
        </p:nvPicPr>
        <p:blipFill>
          <a:blip r:embed="rId25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40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Now Say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the Numbers: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685800" y="2438280"/>
            <a:ext cx="129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Rectangle 31"/>
          <p:cNvSpPr/>
          <p:nvPr/>
        </p:nvSpPr>
        <p:spPr>
          <a:xfrm>
            <a:off x="1996920" y="2438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4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3462480" y="2438280"/>
            <a:ext cx="1447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6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4876920" y="2438280"/>
            <a:ext cx="1447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8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6324480" y="2438280"/>
            <a:ext cx="193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0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Rectangle 35"/>
          <p:cNvSpPr/>
          <p:nvPr/>
        </p:nvSpPr>
        <p:spPr>
          <a:xfrm>
            <a:off x="53352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Rectangle 36"/>
          <p:cNvSpPr/>
          <p:nvPr/>
        </p:nvSpPr>
        <p:spPr>
          <a:xfrm>
            <a:off x="251460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4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451008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6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Rectangle 38"/>
          <p:cNvSpPr/>
          <p:nvPr/>
        </p:nvSpPr>
        <p:spPr>
          <a:xfrm>
            <a:off x="655308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8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Rectangle 39"/>
          <p:cNvSpPr/>
          <p:nvPr/>
        </p:nvSpPr>
        <p:spPr>
          <a:xfrm>
            <a:off x="59544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0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Rectangle 40"/>
          <p:cNvSpPr/>
          <p:nvPr/>
        </p:nvSpPr>
        <p:spPr>
          <a:xfrm>
            <a:off x="257652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Rectangle 41"/>
          <p:cNvSpPr/>
          <p:nvPr/>
        </p:nvSpPr>
        <p:spPr>
          <a:xfrm>
            <a:off x="452916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6" name="Picture 47" descr=""/>
          <p:cNvPicPr/>
          <p:nvPr/>
        </p:nvPicPr>
        <p:blipFill>
          <a:blip r:embed="rId1"/>
          <a:stretch/>
        </p:blipFill>
        <p:spPr>
          <a:xfrm>
            <a:off x="358128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7" name="wmpaud6.wav" descr=""/>
          <p:cNvPicPr/>
          <p:nvPr/>
        </p:nvPicPr>
        <p:blipFill>
          <a:blip r:embed="rId2"/>
          <a:stretch/>
        </p:blipFill>
        <p:spPr>
          <a:xfrm>
            <a:off x="5638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3000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750"/>
                            </p:stCondLst>
                            <p:childTnLst>
                              <p:par>
                                <p:cTn id="2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800"/>
                            </p:stCondLst>
                            <p:childTnLst>
                              <p:par>
                                <p:cTn id="3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85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900"/>
                            </p:stCondLst>
                            <p:childTnLst>
                              <p:par>
                                <p:cTn id="3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950"/>
                            </p:stCondLst>
                            <p:childTnLst>
                              <p:par>
                                <p:cTn id="3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50"/>
                            </p:stCondLst>
                            <p:childTnLst>
                              <p:par>
                                <p:cTn id="3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150"/>
                            </p:stCondLst>
                            <p:childTnLst>
                              <p:par>
                                <p:cTn id="3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250"/>
                            </p:stCondLst>
                            <p:childTnLst>
                              <p:par>
                                <p:cTn id="3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350"/>
                            </p:stCondLst>
                            <p:childTnLst>
                              <p:par>
                                <p:cTn id="3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4450"/>
                            </p:stCondLst>
                            <p:childTnLst>
                              <p:par>
                                <p:cTn id="3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550"/>
                            </p:stCondLst>
                            <p:childTnLst>
                              <p:par>
                                <p:cTn id="3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6650"/>
                            </p:stCondLst>
                            <p:childTnLst>
                              <p:par>
                                <p:cTn id="3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Practice 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the pattern</a:t>
            </a: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 in class!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79" name="Picture 3" descr="j0215302"/>
          <p:cNvPicPr/>
          <p:nvPr/>
        </p:nvPicPr>
        <p:blipFill>
          <a:blip r:embed="rId1"/>
          <a:stretch/>
        </p:blipFill>
        <p:spPr>
          <a:xfrm>
            <a:off x="228600" y="3733920"/>
            <a:ext cx="2147760" cy="2590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2"/>
          <a:stretch/>
        </p:blipFill>
        <p:spPr>
          <a:xfrm>
            <a:off x="434340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9" dur="400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03704E-006 C 0.0007 -0.02129 -0.00034 -0.04398 0.00486 -0.06458 C 0.0066 -0.07129 0.00729 -0.07847 0.0099 -0.08448 C 0.01181 -0.08911 0.01667 -0.09791 0.01667 -0.09791 C 0.01945 -0.10972 0.03247 -0.12962 0.04167 -0.13333 C 0.04896 -0.14004 0.05486 -0.14953 0.0632 -0.15347 C 0.07327 -0.1662 0.0882 -0.17546 0.10157 -0.18009 C 0.11042 -0.18773 0.11806 -0.19073 0.1283 -0.19328 C 0.14879 -0.19259 0.17309 -0.19837 0.19323 -0.1868 C 0.20104 -0.1824 0.20782 -0.17523 0.21493 -0.16898 C 0.21823 -0.16597 0.225 -0.15995 0.225 -0.15995 C 0.23195 -0.14629 0.24462 -0.13819 0.25486 -0.12893 C 0.25973 -0.12453 0.26389 -0.11874 0.26823 -0.11342 C 0.27466 -0.10601 0.28108 -0.09722 0.2849 -0.0868 C 0.28889 -0.07592 0.28646 -0.08009 0.29167 -0.07337 C 0.29601 -0.05485 0.28959 -0.03356 0.29497 -0.0155 C 0.29861 -0.003 0.29566 -0.04235 0.29653 -0.05555 C 0.29723 -0.0662 0.30677 -0.08379 0.31163 -0.09328 C 0.31598 -0.11203 0.30973 -0.08911 0.31667 -0.10439 C 0.31754 -0.10648 0.31736 -0.10902 0.31823 -0.1111 C 0.32014 -0.11573 0.32275 -0.12013 0.325 -0.12453 C 0.32917 -0.13286 0.33698 -0.1405 0.34167 -0.14884 C 0.34167 -0.14884 0.34983 -0.1655 0.35157 -0.16898 C 0.35313 -0.17222 0.35625 -0.17314 0.35834 -0.17569 C 0.36407 -0.1831 0.35903 -0.18078 0.36493 -0.1868 C 0.37361 -0.19536 0.38316 -0.20393 0.39323 -0.20902 C 0.39532 -0.21018 0.39775 -0.21041 0.4 -0.2111 C 0.40226 -0.2118 0.40452 -0.21226 0.4066 -0.21342 C 0.43125 -0.22592 0.45695 -0.2324 0.48334 -0.23564 C 0.52726 -0.23333 0.52257 -0.23564 0.5533 -0.22222 C 0.56094 -0.21435 0.56563 -0.2155 0.57327 -0.20902 C 0.57552 -0.20694 0.57743 -0.20393 0.57986 -0.20231 C 0.59983 -0.18888 0.57309 -0.21226 0.59323 -0.1956 C 0.60295 -0.18749 0.61025 -0.17499 0.61997 -0.16666 C 0.62292 -0.1537 0.61945 -0.1655 0.625 -0.15555 C 0.62743 -0.15138 0.6316 -0.14235 0.6316 -0.14235 C 0.63525 -0.12314 0.63073 -0.14235 0.63663 -0.12661 C 0.6382 -0.12222 0.63924 -0.11296 0.63993 -0.10902 C 0.6415 -0.10046 0.64532 -0.09444 0.64827 -0.0868 C 0.65174 -0.07777 0.65243 -0.06851 0.6566 -0.05995 C 0.66181 -0.03402 0.65834 -0.05416 0.65834 0.00209 L 0.6566 -0.04004 E">
                                      <p:cBhvr>
                                        <p:cTn id="392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j0215302"/>
          <p:cNvPicPr/>
          <p:nvPr/>
        </p:nvPicPr>
        <p:blipFill>
          <a:blip r:embed="rId1"/>
          <a:stretch/>
        </p:blipFill>
        <p:spPr>
          <a:xfrm>
            <a:off x="2971800" y="2133720"/>
            <a:ext cx="2147760" cy="2590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2"/>
          <a:stretch/>
        </p:blipFill>
        <p:spPr>
          <a:xfrm>
            <a:off x="45720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 0.01065 -0.017 0.02131 -0.021 0.03463 C -0.025 0.04928 -0.027 0.06659 -0.029 0.0839 C -0.031 0.10122 -0.029 0.11587 -0.027 0.13185 C -0.025 0.1465 -0.022 0.16248 -0.015 0.1758 C -0.009 0.18911 0.001 0.19977 0.012 0.20776 C 0.022 0.21575 0.034 0.22108 0.046 0.22374 C 0.058 0.2264 0.07 0.2264 0.081 0.22374 C 0.093 0.22108 0.104 0.21442 0.113 0.20376 C 0.122 0.19444 0.13 0.18246 0.134 0.16781 C 0.139 0.15449 0.141 0.13584 0.141 0.12119 C 0.142 0.10654 0.141 0.08923 0.136 0.07458 C 0.131 0.06126 0.122 0.05061 0.11 0.04528 C 0.098 0.04129 0.086 0.04661 0.078 0.05594 C 0.071 0.06526 0.066 0.07991 0.065 0.09722 C 0.065 0.11453 0.066 0.13052 0.071 0.14383 C 0.076 0.15715 0.075 0.15982 0.095 0.17713 C 0.113 0.19577 0.131 0.19045 0.142 0.19178 C 0.153 0.19178 0.162 0.18645 0.173 0.18112 C 0.185 0.17446 0.195 0.16248 0.202 0.15182 C 0.209 0.14117 0.212 0.12785 0.216 0.10654 C 0.219 0.08523 0.219 0.07458 0.219 0.0586 C 0.219 0.04262 0.219 0.02664 0.219 0.01065 E">
                                      <p:cBhvr>
                                        <p:cTn id="405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64064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6666"/>
                </a:solidFill>
                <a:latin typeface="Verdana"/>
              </a:rPr>
              <a:t>Skip </a:t>
            </a: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Counting</a:t>
            </a:r>
            <a:endParaRPr b="0" lang="en-US" sz="9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84" name="Picture 3" descr="j0215302"/>
          <p:cNvPicPr/>
          <p:nvPr/>
        </p:nvPicPr>
        <p:blipFill>
          <a:blip r:embed="rId1"/>
          <a:stretch/>
        </p:blipFill>
        <p:spPr>
          <a:xfrm>
            <a:off x="1295280" y="3733920"/>
            <a:ext cx="2148120" cy="2590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57200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3"/>
          <a:stretch/>
        </p:blipFill>
        <p:spPr>
          <a:xfrm>
            <a:off x="57913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4000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6296E-006 C 0.00104 -0.01667 0.00087 -0.03681 0.00833 -0.05116 C 0.01371 -0.07245 0.0099 -0.06042 0.02153 -0.08657 C 0.02431 -0.09282 0.02552 -0.10023 0.0283 -0.10671 C 0.03542 -0.12361 0.04149 -0.13981 0.05 -0.15556 C 0.05451 -0.16389 0.05746 -0.17431 0.06493 -0.17778 C 0.07396 -0.19352 0.08507 -0.2044 0.09826 -0.21319 C 0.10556 -0.22338 0.11684 -0.22593 0.12656 -0.23102 C 0.12847 -0.23194 0.12969 -0.23449 0.1316 -0.23542 C 0.13993 -0.23958 0.13837 -0.23565 0.14496 -0.24005 C 0.16319 -0.25208 0.17812 -0.25393 0.19826 -0.25764 C 0.22674 -0.26296 0.19236 -0.25718 0.21163 -0.26227 C 0.23646 -0.26898 0.26146 -0.27639 0.28663 -0.27986 C 0.29271 -0.28194 0.29878 -0.28542 0.30486 -0.28657 C 0.31371 -0.28819 0.3316 -0.29097 0.3316 -0.29097 C 0.36458 -0.29005 0.3934 -0.29676 0.42326 -0.28449 C 0.43003 -0.27824 0.43785 -0.27662 0.44496 -0.27106 C 0.46545 -0.25556 0.45469 -0.25995 0.46823 -0.25556 C 0.47639 -0.24468 0.48837 -0.23935 0.49826 -0.23102 C 0.51059 -0.2206 0.52031 -0.20625 0.53333 -0.19768 C 0.5349 -0.19468 0.53628 -0.19143 0.53819 -0.18889 C 0.53958 -0.18704 0.54201 -0.18657 0.54323 -0.18449 C 0.54479 -0.18194 0.54514 -0.17824 0.54653 -0.17546 C 0.54809 -0.17222 0.5526 -0.16875 0.55486 -0.16667 C 0.55885 -0.15139 0.56771 -0.13935 0.575 -0.12662 C 0.58524 -0.10856 0.57639 -0.11898 0.5816 -0.10671 C 0.5849 -0.09884 0.5901 -0.08657 0.59496 -0.07986 C 0.59757 -0.0713 0.59861 -0.06412 0.6033 -0.05764 C 0.60903 -0.03356 0.61493 -0.01157 0.61823 0.01343 C 0.61875 0.01713 0.61996 0.02083 0.61996 0.02454 C 0.61996 0.02685 0.6191 0.01991 0.61823 0.01782 C 0.61736 0.01551 0.61597 0.01343 0.61493 0.01111 C 0.61215 -0.00278 0.61441 0.00486 0.6066 -0.01111 C 0.60191 -0.02083 0.59896 -0.0338 0.59496 -0.04444 C 0.59045 -0.05694 0.57812 -0.07569 0.57153 -0.08657 C 0.55799 -0.1088 0.54514 -0.13148 0.53333 -0.15556 C 0.53264 -0.15718 0.51823 -0.17176 0.51667 -0.17338 C 0.48941 -0.20347 0.45608 -0.21435 0.42153 -0.22222 C 0.40104 -0.22153 0.38038 -0.22176 0.3599 -0.21991 C 0.35538 -0.21944 0.34653 -0.21551 0.34653 -0.21551 C 0.34496 -0.21412 0.3434 -0.21227 0.34167 -0.21111 C 0.33837 -0.20926 0.3316 -0.20671 0.3316 -0.20671 C 0.32621 -0.20185 0.32083 -0.19954 0.31493 -0.1956 C 0.30972 -0.18819 0.30226 -0.18681 0.29496 -0.18449 C 0.29062 -0.17847 0.28924 -0.17384 0.28333 -0.17106 C 0.28212 -0.16875 0.28125 -0.16643 0.27986 -0.16435 C 0.27726 -0.16042 0.27153 -0.15324 0.27153 -0.15324 C 0.26684 -0.14074 0.26233 -0.12708 0.2566 -0.11551 C 0.25226 -0.09352 0.25799 -0.11667 0.25156 -0.10208 C 0.25069 -0.10023 0.24844 -0.0875 0.24826 -0.08657 C 0.24774 -0.05741 0.24496 -0.01204 0.24496 0.02222 E">
                                      <p:cBhvr>
                                        <p:cTn id="423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9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49528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2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3000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94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"/>
          <p:cNvPicPr/>
          <p:nvPr/>
        </p:nvPicPr>
        <p:blipFill>
          <a:blip r:embed="rId5"/>
          <a:stretch/>
        </p:blipFill>
        <p:spPr>
          <a:xfrm>
            <a:off x="4495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3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5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"/>
          <p:cNvPicPr/>
          <p:nvPr/>
        </p:nvPicPr>
        <p:blipFill>
          <a:blip r:embed="rId3"/>
          <a:stretch/>
        </p:blipFill>
        <p:spPr>
          <a:xfrm>
            <a:off x="49528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1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28600" y="2819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0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"/>
          <p:cNvPicPr/>
          <p:nvPr/>
        </p:nvPicPr>
        <p:blipFill>
          <a:blip r:embed="rId9"/>
          <a:stretch/>
        </p:blipFill>
        <p:spPr>
          <a:xfrm>
            <a:off x="4495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7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0" y="281952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1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4" descr=""/>
          <p:cNvPicPr/>
          <p:nvPr/>
        </p:nvPicPr>
        <p:blipFill>
          <a:blip r:embed="rId11"/>
          <a:stretch/>
        </p:blipFill>
        <p:spPr>
          <a:xfrm>
            <a:off x="44197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9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0" y="277344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4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6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1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335268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9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8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6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0" descr=""/>
          <p:cNvPicPr/>
          <p:nvPr/>
        </p:nvPicPr>
        <p:blipFill>
          <a:blip r:embed="rId17"/>
          <a:stretch/>
        </p:blipFill>
        <p:spPr>
          <a:xfrm>
            <a:off x="4267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5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5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2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0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7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0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6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4" descr=""/>
          <p:cNvPicPr/>
          <p:nvPr/>
        </p:nvPicPr>
        <p:blipFill>
          <a:blip r:embed="rId2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2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4" descr="j0232146"/>
          <p:cNvPicPr/>
          <p:nvPr/>
        </p:nvPicPr>
        <p:blipFill>
          <a:blip r:embed="rId21"/>
          <a:stretch/>
        </p:blipFill>
        <p:spPr>
          <a:xfrm>
            <a:off x="43750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5" descr="j0232146"/>
          <p:cNvPicPr/>
          <p:nvPr/>
        </p:nvPicPr>
        <p:blipFill>
          <a:blip r:embed="rId22"/>
          <a:stretch/>
        </p:blipFill>
        <p:spPr>
          <a:xfrm>
            <a:off x="5442120" y="48481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6" descr=""/>
          <p:cNvPicPr/>
          <p:nvPr/>
        </p:nvPicPr>
        <p:blipFill>
          <a:blip r:embed="rId2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1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50532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4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0" descr="j0232146"/>
          <p:cNvPicPr/>
          <p:nvPr/>
        </p:nvPicPr>
        <p:blipFill>
          <a:blip r:embed="rId17"/>
          <a:stretch/>
        </p:blipFill>
        <p:spPr>
          <a:xfrm>
            <a:off x="6432480" y="38401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1" descr="j0232146"/>
          <p:cNvPicPr/>
          <p:nvPr/>
        </p:nvPicPr>
        <p:blipFill>
          <a:blip r:embed="rId18"/>
          <a:stretch/>
        </p:blipFill>
        <p:spPr>
          <a:xfrm>
            <a:off x="7499520" y="38401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22" descr="j0232146"/>
          <p:cNvPicPr/>
          <p:nvPr/>
        </p:nvPicPr>
        <p:blipFill>
          <a:blip r:embed="rId19"/>
          <a:stretch/>
        </p:blipFill>
        <p:spPr>
          <a:xfrm>
            <a:off x="22114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3" descr="j0232146"/>
          <p:cNvPicPr/>
          <p:nvPr/>
        </p:nvPicPr>
        <p:blipFill>
          <a:blip r:embed="rId20"/>
          <a:stretch/>
        </p:blipFill>
        <p:spPr>
          <a:xfrm>
            <a:off x="327816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4" descr="j0232146"/>
          <p:cNvPicPr/>
          <p:nvPr/>
        </p:nvPicPr>
        <p:blipFill>
          <a:blip r:embed="rId21"/>
          <a:stretch/>
        </p:blipFill>
        <p:spPr>
          <a:xfrm>
            <a:off x="4375080" y="48481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5" descr="j0232146"/>
          <p:cNvPicPr/>
          <p:nvPr/>
        </p:nvPicPr>
        <p:blipFill>
          <a:blip r:embed="rId22"/>
          <a:stretch/>
        </p:blipFill>
        <p:spPr>
          <a:xfrm>
            <a:off x="5442120" y="48481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6" descr="j0232146"/>
          <p:cNvPicPr/>
          <p:nvPr/>
        </p:nvPicPr>
        <p:blipFill>
          <a:blip r:embed="rId23"/>
          <a:stretch/>
        </p:blipFill>
        <p:spPr>
          <a:xfrm>
            <a:off x="6461280" y="483084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27" descr="j0232146"/>
          <p:cNvPicPr/>
          <p:nvPr/>
        </p:nvPicPr>
        <p:blipFill>
          <a:blip r:embed="rId24"/>
          <a:stretch/>
        </p:blipFill>
        <p:spPr>
          <a:xfrm>
            <a:off x="7527960" y="483084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8" descr=""/>
          <p:cNvPicPr/>
          <p:nvPr/>
        </p:nvPicPr>
        <p:blipFill>
          <a:blip r:embed="rId25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7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5"/>
          <a:stretch/>
        </p:blipFill>
        <p:spPr>
          <a:xfrm>
            <a:off x="4495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40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Now Say</a:t>
            </a:r>
            <a:br>
              <a:rPr sz="5400"/>
            </a:b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the Numbers: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685800" y="2438280"/>
            <a:ext cx="1295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1996920" y="2438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4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Rectangle 5"/>
          <p:cNvSpPr/>
          <p:nvPr/>
        </p:nvSpPr>
        <p:spPr>
          <a:xfrm>
            <a:off x="3462480" y="2438280"/>
            <a:ext cx="1447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6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4876920" y="2438280"/>
            <a:ext cx="1447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8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6324480" y="2438280"/>
            <a:ext cx="193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0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53352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Rectangle 9"/>
          <p:cNvSpPr/>
          <p:nvPr/>
        </p:nvSpPr>
        <p:spPr>
          <a:xfrm>
            <a:off x="251460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4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7" name="Rectangle 10"/>
          <p:cNvSpPr/>
          <p:nvPr/>
        </p:nvSpPr>
        <p:spPr>
          <a:xfrm>
            <a:off x="451008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6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6553080" y="37339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8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59544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0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257652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2,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1" name="Rectangle 14"/>
          <p:cNvSpPr/>
          <p:nvPr/>
        </p:nvSpPr>
        <p:spPr>
          <a:xfrm>
            <a:off x="4529160" y="5105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2" name="Picture 15" descr=""/>
          <p:cNvPicPr/>
          <p:nvPr/>
        </p:nvPicPr>
        <p:blipFill>
          <a:blip r:embed="rId1"/>
          <a:stretch/>
        </p:blipFill>
        <p:spPr>
          <a:xfrm>
            <a:off x="3581280" y="7086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3" name="wmpaud6.wav" descr=""/>
          <p:cNvPicPr/>
          <p:nvPr/>
        </p:nvPicPr>
        <p:blipFill>
          <a:blip r:embed="rId2"/>
          <a:stretch/>
        </p:blipFill>
        <p:spPr>
          <a:xfrm>
            <a:off x="5638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3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0" dur="3000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4750"/>
                            </p:stCondLst>
                            <p:childTnLst>
                              <p:par>
                                <p:cTn id="70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800"/>
                            </p:stCondLst>
                            <p:childTnLst>
                              <p:par>
                                <p:cTn id="7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6850"/>
                            </p:stCondLst>
                            <p:childTnLst>
                              <p:par>
                                <p:cTn id="7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7900"/>
                            </p:stCondLst>
                            <p:childTnLst>
                              <p:par>
                                <p:cTn id="7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950"/>
                            </p:stCondLst>
                            <p:childTnLst>
                              <p:par>
                                <p:cTn id="7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50"/>
                            </p:stCondLst>
                            <p:childTnLst>
                              <p:par>
                                <p:cTn id="7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1150"/>
                            </p:stCondLst>
                            <p:childTnLst>
                              <p:par>
                                <p:cTn id="7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2250"/>
                            </p:stCondLst>
                            <p:childTnLst>
                              <p:par>
                                <p:cTn id="7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3350"/>
                            </p:stCondLst>
                            <p:childTnLst>
                              <p:par>
                                <p:cTn id="7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4450"/>
                            </p:stCondLst>
                            <p:childTnLst>
                              <p:par>
                                <p:cTn id="7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550"/>
                            </p:stCondLst>
                            <p:childTnLst>
                              <p:par>
                                <p:cTn id="7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6650"/>
                            </p:stCondLst>
                            <p:childTnLst>
                              <p:par>
                                <p:cTn id="7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3416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Practice 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the pattern</a:t>
            </a: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 in class!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95" name="Picture 3" descr="j0215302"/>
          <p:cNvPicPr/>
          <p:nvPr/>
        </p:nvPicPr>
        <p:blipFill>
          <a:blip r:embed="rId1"/>
          <a:stretch/>
        </p:blipFill>
        <p:spPr>
          <a:xfrm>
            <a:off x="228600" y="3733920"/>
            <a:ext cx="2147760" cy="25905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4343400" y="701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6" dur="4000" fill="hold"/>
                                        <p:tgtEl>
                                          <p:spTgt spid="5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4000"/>
                            </p:stCondLst>
                            <p:childTnLst>
                              <p:par>
                                <p:cTn id="7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03704E-006 C 0.0007 -0.02129 -0.00034 -0.04398 0.00486 -0.06458 C 0.0066 -0.07129 0.00729 -0.07847 0.0099 -0.08448 C 0.01181 -0.08911 0.01667 -0.09791 0.01667 -0.09791 C 0.01945 -0.10972 0.03247 -0.12962 0.04167 -0.13333 C 0.04896 -0.14004 0.05486 -0.14953 0.0632 -0.15347 C 0.07327 -0.1662 0.0882 -0.17546 0.10157 -0.18009 C 0.11042 -0.18773 0.11806 -0.19073 0.1283 -0.19328 C 0.14879 -0.19259 0.17309 -0.19837 0.19323 -0.1868 C 0.20104 -0.1824 0.20782 -0.17523 0.21493 -0.16898 C 0.21823 -0.16597 0.225 -0.15995 0.225 -0.15995 C 0.23195 -0.14629 0.24462 -0.13819 0.25486 -0.12893 C 0.25973 -0.12453 0.26389 -0.11874 0.26823 -0.11342 C 0.27466 -0.10601 0.28108 -0.09722 0.2849 -0.0868 C 0.28889 -0.07592 0.28646 -0.08009 0.29167 -0.07337 C 0.29601 -0.05485 0.28959 -0.03356 0.29497 -0.0155 C 0.29861 -0.003 0.29566 -0.04235 0.29653 -0.05555 C 0.29723 -0.0662 0.30677 -0.08379 0.31163 -0.09328 C 0.31598 -0.11203 0.30973 -0.08911 0.31667 -0.10439 C 0.31754 -0.10648 0.31736 -0.10902 0.31823 -0.1111 C 0.32014 -0.11573 0.32275 -0.12013 0.325 -0.12453 C 0.32917 -0.13286 0.33698 -0.1405 0.34167 -0.14884 C 0.34167 -0.14884 0.34983 -0.1655 0.35157 -0.16898 C 0.35313 -0.17222 0.35625 -0.17314 0.35834 -0.17569 C 0.36407 -0.1831 0.35903 -0.18078 0.36493 -0.1868 C 0.37361 -0.19536 0.38316 -0.20393 0.39323 -0.20902 C 0.39532 -0.21018 0.39775 -0.21041 0.4 -0.2111 C 0.40226 -0.2118 0.40452 -0.21226 0.4066 -0.21342 C 0.43125 -0.22592 0.45695 -0.2324 0.48334 -0.23564 C 0.52726 -0.23333 0.52257 -0.23564 0.5533 -0.22222 C 0.56094 -0.21435 0.56563 -0.2155 0.57327 -0.20902 C 0.57552 -0.20694 0.57743 -0.20393 0.57986 -0.20231 C 0.59983 -0.18888 0.57309 -0.21226 0.59323 -0.1956 C 0.60295 -0.18749 0.61025 -0.17499 0.61997 -0.16666 C 0.62292 -0.1537 0.61945 -0.1655 0.625 -0.15555 C 0.62743 -0.15138 0.6316 -0.14235 0.6316 -0.14235 C 0.63525 -0.12314 0.63073 -0.14235 0.63663 -0.12661 C 0.6382 -0.12222 0.63924 -0.11296 0.63993 -0.10902 C 0.6415 -0.10046 0.64532 -0.09444 0.64827 -0.0868 C 0.65174 -0.07777 0.65243 -0.06851 0.6566 -0.05995 C 0.66181 -0.03402 0.65834 -0.05416 0.65834 0.00209 L 0.6566 -0.04004 E">
                                      <p:cBhvr>
                                        <p:cTn id="799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000"/>
                            </p:stCondLst>
                            <p:childTnLst>
                              <p:par>
                                <p:cTn id="80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04920" y="1752480"/>
            <a:ext cx="1828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2819520"/>
            <a:ext cx="1828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4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"/>
          <p:cNvPicPr/>
          <p:nvPr/>
        </p:nvPicPr>
        <p:blipFill>
          <a:blip r:embed="rId9"/>
          <a:stretch/>
        </p:blipFill>
        <p:spPr>
          <a:xfrm>
            <a:off x="44956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281952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5" descr=""/>
          <p:cNvPicPr/>
          <p:nvPr/>
        </p:nvPicPr>
        <p:blipFill>
          <a:blip r:embed="rId11"/>
          <a:stretch/>
        </p:blipFill>
        <p:spPr>
          <a:xfrm>
            <a:off x="44197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2773440"/>
            <a:ext cx="21337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8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0" y="335268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4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406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Verdana"/>
              </a:rPr>
              <a:t>Count by 2’s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3429000"/>
            <a:ext cx="2133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Verdana"/>
              </a:rPr>
              <a:t>16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0" name="Picture 4" descr="j0232146"/>
          <p:cNvPicPr/>
          <p:nvPr/>
        </p:nvPicPr>
        <p:blipFill>
          <a:blip r:embed="rId1"/>
          <a:stretch/>
        </p:blipFill>
        <p:spPr>
          <a:xfrm>
            <a:off x="21337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j0232146"/>
          <p:cNvPicPr/>
          <p:nvPr/>
        </p:nvPicPr>
        <p:blipFill>
          <a:blip r:embed="rId2"/>
          <a:stretch/>
        </p:blipFill>
        <p:spPr>
          <a:xfrm>
            <a:off x="32004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j0232146"/>
          <p:cNvPicPr/>
          <p:nvPr/>
        </p:nvPicPr>
        <p:blipFill>
          <a:blip r:embed="rId3"/>
          <a:stretch/>
        </p:blipFill>
        <p:spPr>
          <a:xfrm>
            <a:off x="419112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j0232146"/>
          <p:cNvPicPr/>
          <p:nvPr/>
        </p:nvPicPr>
        <p:blipFill>
          <a:blip r:embed="rId4"/>
          <a:stretch/>
        </p:blipFill>
        <p:spPr>
          <a:xfrm>
            <a:off x="5257800" y="18288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j0232146"/>
          <p:cNvPicPr/>
          <p:nvPr/>
        </p:nvPicPr>
        <p:blipFill>
          <a:blip r:embed="rId5"/>
          <a:stretch/>
        </p:blipFill>
        <p:spPr>
          <a:xfrm>
            <a:off x="6337440" y="186048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j0232146"/>
          <p:cNvPicPr/>
          <p:nvPr/>
        </p:nvPicPr>
        <p:blipFill>
          <a:blip r:embed="rId6"/>
          <a:stretch/>
        </p:blipFill>
        <p:spPr>
          <a:xfrm>
            <a:off x="7404120" y="186048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j0232146"/>
          <p:cNvPicPr/>
          <p:nvPr/>
        </p:nvPicPr>
        <p:blipFill>
          <a:blip r:embed="rId7"/>
          <a:stretch/>
        </p:blipFill>
        <p:spPr>
          <a:xfrm>
            <a:off x="21495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j0232146"/>
          <p:cNvPicPr/>
          <p:nvPr/>
        </p:nvPicPr>
        <p:blipFill>
          <a:blip r:embed="rId8"/>
          <a:stretch/>
        </p:blipFill>
        <p:spPr>
          <a:xfrm>
            <a:off x="32162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j0232146"/>
          <p:cNvPicPr/>
          <p:nvPr/>
        </p:nvPicPr>
        <p:blipFill>
          <a:blip r:embed="rId9"/>
          <a:stretch/>
        </p:blipFill>
        <p:spPr>
          <a:xfrm>
            <a:off x="4251240" y="283536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j0232146"/>
          <p:cNvPicPr/>
          <p:nvPr/>
        </p:nvPicPr>
        <p:blipFill>
          <a:blip r:embed="rId10"/>
          <a:stretch/>
        </p:blipFill>
        <p:spPr>
          <a:xfrm>
            <a:off x="5318280" y="283536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j0232146"/>
          <p:cNvPicPr/>
          <p:nvPr/>
        </p:nvPicPr>
        <p:blipFill>
          <a:blip r:embed="rId11"/>
          <a:stretch/>
        </p:blipFill>
        <p:spPr>
          <a:xfrm>
            <a:off x="638496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5" descr="j0232146"/>
          <p:cNvPicPr/>
          <p:nvPr/>
        </p:nvPicPr>
        <p:blipFill>
          <a:blip r:embed="rId12"/>
          <a:stretch/>
        </p:blipFill>
        <p:spPr>
          <a:xfrm>
            <a:off x="7451640" y="28195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6" descr="j0232146"/>
          <p:cNvPicPr/>
          <p:nvPr/>
        </p:nvPicPr>
        <p:blipFill>
          <a:blip r:embed="rId13"/>
          <a:stretch/>
        </p:blipFill>
        <p:spPr>
          <a:xfrm>
            <a:off x="2195640" y="3825720"/>
            <a:ext cx="758520" cy="838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7" descr="j0232146"/>
          <p:cNvPicPr/>
          <p:nvPr/>
        </p:nvPicPr>
        <p:blipFill>
          <a:blip r:embed="rId14"/>
          <a:stretch/>
        </p:blipFill>
        <p:spPr>
          <a:xfrm>
            <a:off x="3262320" y="3825720"/>
            <a:ext cx="758880" cy="838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8" descr="j0232146"/>
          <p:cNvPicPr/>
          <p:nvPr/>
        </p:nvPicPr>
        <p:blipFill>
          <a:blip r:embed="rId15"/>
          <a:stretch/>
        </p:blipFill>
        <p:spPr>
          <a:xfrm>
            <a:off x="4313160" y="384192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j0232146"/>
          <p:cNvPicPr/>
          <p:nvPr/>
        </p:nvPicPr>
        <p:blipFill>
          <a:blip r:embed="rId16"/>
          <a:stretch/>
        </p:blipFill>
        <p:spPr>
          <a:xfrm>
            <a:off x="5380200" y="3841920"/>
            <a:ext cx="758520" cy="838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5" descr=""/>
          <p:cNvPicPr/>
          <p:nvPr/>
        </p:nvPicPr>
        <p:blipFill>
          <a:blip r:embed="rId17"/>
          <a:stretch/>
        </p:blipFill>
        <p:spPr>
          <a:xfrm>
            <a:off x="426708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9:47:18Z</dcterms:created>
  <dc:creator>Technology Services</dc:creator>
  <dc:description/>
  <dc:language>en-US</dc:language>
  <cp:lastModifiedBy>Lauren Griffin</cp:lastModifiedBy>
  <dcterms:modified xsi:type="dcterms:W3CDTF">2010-03-20T20:21:34Z</dcterms:modified>
  <cp:revision>53</cp:revision>
  <dc:subject/>
  <dc:title>Skip Counting</dc:title>
</cp:coreProperties>
</file>